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BBEF-11AD-4205-91F5-63BF8B73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34DC-353A-40AB-A1FD-61F2236F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C999-CBBF-42A6-9BA5-B3EA1873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9170-9483-4AD3-A8F9-D66F1EF8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A2FF-D680-4FCE-A327-D2454789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1A97-34D6-4CD5-80B9-B1E93D61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B904-95C0-4625-AA1E-27F2AD1E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E431-DD27-4B2F-8B4B-6DFA8BA3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2B3B-021C-4373-B2A3-85435A58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E3B1-B998-4331-BD8F-85EA3F60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3654-7685-4421-BDFD-FFE72D59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7477-1A3D-43C5-997D-7A3F91A1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552A-870B-490F-A664-7B31B4EF41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apter 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ppendicular Skelet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rcRect l="11740" t="6457" r="7503" b="7855"/>
          <a:stretch/>
        </p:blipFill>
        <p:spPr>
          <a:xfrm>
            <a:off x="123840" y="739800"/>
            <a:ext cx="4067280" cy="558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rcRect l="7608" t="1413" r="4354" b="7487"/>
          <a:stretch/>
        </p:blipFill>
        <p:spPr>
          <a:xfrm>
            <a:off x="4267080" y="457200"/>
            <a:ext cx="463068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"/>
          <p:cNvPicPr/>
          <p:nvPr/>
        </p:nvPicPr>
        <p:blipFill>
          <a:blip r:embed="rId1"/>
          <a:srcRect l="14222" t="11453" r="9214" b="13071"/>
          <a:stretch/>
        </p:blipFill>
        <p:spPr>
          <a:xfrm>
            <a:off x="2209680" y="685800"/>
            <a:ext cx="472464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rcRect l="19533" t="15185" r="15062" b="16545"/>
          <a:stretch/>
        </p:blipFill>
        <p:spPr>
          <a:xfrm>
            <a:off x="1981080" y="304920"/>
            <a:ext cx="4343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rcRect l="14105" t="17547" r="10295" b="18263"/>
          <a:stretch/>
        </p:blipFill>
        <p:spPr>
          <a:xfrm>
            <a:off x="1905120" y="609480"/>
            <a:ext cx="56386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rcRect l="1704" t="25635" r="1704" b="21806"/>
          <a:stretch/>
        </p:blipFill>
        <p:spPr>
          <a:xfrm>
            <a:off x="228600" y="1219320"/>
            <a:ext cx="86184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rcRect l="24271" t="11530" r="23274" b="11999"/>
          <a:stretch/>
        </p:blipFill>
        <p:spPr>
          <a:xfrm>
            <a:off x="206280" y="1371600"/>
            <a:ext cx="3932280" cy="441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rcRect l="14598" t="9751" r="13505" b="9720"/>
          <a:stretch/>
        </p:blipFill>
        <p:spPr>
          <a:xfrm>
            <a:off x="4495680" y="1523880"/>
            <a:ext cx="46483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rcRect l="2028" t="14148" r="2176" b="11307"/>
          <a:stretch/>
        </p:blipFill>
        <p:spPr>
          <a:xfrm>
            <a:off x="380880" y="1447920"/>
            <a:ext cx="80359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rcRect l="2167" t="14698" r="2014" b="11573"/>
          <a:stretch/>
        </p:blipFill>
        <p:spPr>
          <a:xfrm>
            <a:off x="609480" y="1371600"/>
            <a:ext cx="81756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rcRect l="2109" t="23189" r="60721" b="22967"/>
          <a:stretch/>
        </p:blipFill>
        <p:spPr>
          <a:xfrm>
            <a:off x="1905120" y="1066680"/>
            <a:ext cx="5172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rcRect l="39284" t="22442" r="2472" b="20027"/>
          <a:stretch/>
        </p:blipFill>
        <p:spPr>
          <a:xfrm>
            <a:off x="838080" y="1219320"/>
            <a:ext cx="727236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"/>
          <p:cNvPicPr/>
          <p:nvPr/>
        </p:nvPicPr>
        <p:blipFill>
          <a:blip r:embed="rId1"/>
          <a:srcRect l="6819" t="18589" r="55274" b="13769"/>
          <a:stretch/>
        </p:blipFill>
        <p:spPr>
          <a:xfrm>
            <a:off x="1600200" y="758880"/>
            <a:ext cx="59436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"/>
          <p:cNvPicPr/>
          <p:nvPr/>
        </p:nvPicPr>
        <p:blipFill>
          <a:blip r:embed="rId1"/>
          <a:srcRect l="37276" t="18624" r="34251" b="12743"/>
          <a:stretch/>
        </p:blipFill>
        <p:spPr>
          <a:xfrm>
            <a:off x="2819520" y="609480"/>
            <a:ext cx="3232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rcRect l="19545" t="6056" r="14457" b="7087"/>
          <a:stretch/>
        </p:blipFill>
        <p:spPr>
          <a:xfrm>
            <a:off x="2057400" y="990720"/>
            <a:ext cx="464832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rcRect l="6447" t="15094" r="2439" b="16951"/>
          <a:stretch/>
        </p:blipFill>
        <p:spPr>
          <a:xfrm>
            <a:off x="990720" y="533520"/>
            <a:ext cx="586080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rcRect l="2014" t="13771" r="2167" b="11400"/>
          <a:stretch/>
        </p:blipFill>
        <p:spPr>
          <a:xfrm>
            <a:off x="0" y="609480"/>
            <a:ext cx="858996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rcRect l="2458" t="11431" r="2906" b="9461"/>
          <a:stretch/>
        </p:blipFill>
        <p:spPr>
          <a:xfrm>
            <a:off x="228600" y="1371600"/>
            <a:ext cx="83818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9:35:11Z</dcterms:created>
  <dc:creator>aj07537</dc:creator>
  <dc:description/>
  <dc:language>en-US</dc:language>
  <cp:lastModifiedBy>aj07537</cp:lastModifiedBy>
  <dcterms:modified xsi:type="dcterms:W3CDTF">2010-03-08T20:00:01Z</dcterms:modified>
  <cp:revision>3</cp:revision>
  <dc:subject/>
  <dc:title>Slide 1</dc:title>
</cp:coreProperties>
</file>